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6D5-96E1-4947-B925-DF2614EE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5F61-2833-4D80-A9FD-9936656A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D7B3-D6A7-4C2C-9220-FAD81EC1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BBF4-8C89-4C14-9CCF-5F767974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2EEB-EF32-4C6B-B70A-E9A77BA2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33D0-8202-47F8-A649-1CC64716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DB08-04D7-4557-AFEE-46E8DFCE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16FA-1A35-45AA-BDB5-90AF7A98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B0D6-8015-4FAE-968C-E2AB92DE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1071-C3E8-4E13-AA53-15E11953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4667-D703-48DB-A6D3-A0D517F6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790C-D3C8-4AC1-844B-1630E532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B752-8178-4222-BDA9-FFCF230D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4C6B-E342-46A0-991A-64AC4472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2660-173F-4FE6-B1D8-2C2ADD08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D838-C0C5-4E8F-956E-769DB836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F58F-A8FC-4EF2-8F5B-98C250B4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AC754-26AA-4E1D-9424-D6A3DC6F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A34CE-EA0B-407F-A358-16496DC6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2E8E2-9395-487D-B659-31715823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2CB7B-9B41-4C23-9059-0CB9CB73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59D79-01C7-41E3-A711-69294E6B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B15D-9F27-433C-9072-EE81D46B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64326-9FDA-45A9-AD40-49802244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338B3-E063-4B3F-8D40-043D9CB4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44D22-F2F6-4913-BB49-3BDA52BA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97C14-7CE8-453D-83E7-11A8271B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FBE76-FC7C-4DED-A4CF-52BA1340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B89BA-374E-4739-919D-EF857224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8E982-E1CB-47A2-A7ED-FDC5D73A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F9E0D-E3CE-4019-A881-37BF4751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49A93-CC1E-4470-8007-2EB52AC1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83D12-2E1F-491B-A27E-0A4F9D6C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1A5-48BF-42CB-AF68-21CC47B4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02EC0-6E7C-4735-BFE2-A543BE73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1DBDB-7037-402D-A807-61BBF9A0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000A2-F400-4529-8026-10844D76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ADFEF-67EC-47A9-AA6B-5931DE98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10708-8650-417F-95C6-9CACCB33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D8546-9824-4F3E-9CB9-AE294BE0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0D3A4-E4A2-479B-99C9-A846FE85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A44D6-88A1-4677-AE9D-FF245444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3D801-6DD4-4E44-858A-CDB0DE9F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318B2-B960-49DC-B608-7464C0B2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5734-EF6B-4620-8667-138F9893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0E877-B754-41C3-B812-5E48A491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9A192-BD74-4A0D-AC4A-5DCCA24E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CD575-AC80-40DA-8EE7-44CB0F56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0106D-E5F2-4246-BFB8-AA1A9790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39DFD-8F04-4C47-8B0F-CB2BA2AA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EA757-AAB5-48A6-A676-A16F173F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B3320-EA23-47A1-8013-C706CFB5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67EDD-E34B-46DF-AD1F-3104B149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8A5E1-2908-42E3-9143-11454AA7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94CC9-4479-4D0F-AF7B-81B8E0B9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3F33-066A-46DF-B2BF-1C3B95C5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158F9-F86F-4CFD-AC1E-FC3FE924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02058-1455-4182-AAB4-E29777B3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122D6-3F6D-4FE7-9C6C-0E36B7B5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3ECDB-475F-4425-8F75-759B9CE8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FE2BA-7F57-42AA-9446-633E92D9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6CF77-3AD0-499F-B357-6D1695A3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A7648-B326-4EFD-A78A-F2CE92AC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390C2-6C64-49BB-B1EE-D3080B31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875BA-10DF-4095-8419-8ADF7A24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E42BB-B24D-4F98-8958-1F1232D0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CC6F-3C50-4A97-8F4A-A2EFCF32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42FCB-6D18-46F1-9EC8-D28BB883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AEEB8-D125-465E-BA63-D6321FEF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7CFD9-6FEE-433B-B86D-DE6F71B4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7D776-479B-4B16-B5B7-D6759BFC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FF28A-D743-4497-9FDD-9EA35826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58A77-476E-45D8-87F1-88C1F4ED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31330-3D29-4498-950B-823EFAB7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FE6D3-DD93-4A65-A428-F6E68F71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C9E0E-284D-4A75-8E79-CAE388E3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4AAEF-60B9-4BFB-8AC4-F52D364B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D5BF-F546-4CCF-9317-C75B1B01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9C38A-85F0-470F-9B0E-9F5CEB97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19C31-B27A-4EE0-8202-2EDBC1C9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E9DBF-54F8-4321-926D-DD64B4D5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30FF7-669C-41F3-A1BA-B76FF775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2E1E0-F6A9-494F-95F3-247D5826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7F0-8F39-4441-B75A-22C022A3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E32D-65F2-458B-BFB2-9FE7F313FDE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BC41-3C8F-443D-A425-D4353FE7C95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1EB1-7CCE-458C-8A00-EA58BF543A2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B3C8-8304-4121-8249-E7A616C58E2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D165-789D-4E7A-A216-75013E74C28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3612-D610-46B5-99F2-7C123310485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3E74-DC4D-4A6C-B877-C59DFCDEE6A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1341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КОЛЛОИДНЫЕ РАСТВОРЫ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900000" y="691920"/>
            <a:ext cx="74073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ажнейшим методом разрушения золей  является прибавление к ним так называемых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электролитов</a:t>
            </a:r>
            <a:r>
              <a:rPr b="0" i="1" lang="en-US" sz="24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коагуляторов</a:t>
            </a:r>
            <a:r>
              <a:rPr b="0" i="1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При этом ион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вызывающий коагуляцию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должен иметь заряд  противоположный заряду самой гранулы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В качестве  электролитов коагуляторов  обычно  предпочитают  аммонийные соли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так как ион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NH4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не мешает выполнению анализа и может удален прокаливанием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Если же образующийся осадок не растворим  в кислотах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то электролитом  коагулятором может служить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хлороводородная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кислота</a:t>
            </a:r>
            <a:r>
              <a:rPr b="0" i="1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404280"/>
            <a:ext cx="7408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Другое условие коагуляции золей 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3200" spc="-1" strike="noStrike">
                <a:solidFill>
                  <a:srgbClr val="073e87"/>
                </a:solidFill>
                <a:latin typeface="Candara"/>
              </a:rPr>
              <a:t>нагревание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Катионы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 3-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й  аналитической группы осаждают сульфидом аммония  из нагретого раствора в присутствии гидроксида аммония  и  электролита коагулятора 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хлорида аммония 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Соблюдение этих условий предотвращает образование коллоидных растворов и обеспечивает полное осаждение ионов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Осадок промывают также разбавленным раствором </a:t>
            </a: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хлорида или нитрата аммония</a:t>
            </a: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24000" y="259920"/>
            <a:ext cx="8640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Коллоидное состояние вещества чаще всего осложняет анализ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влечет за собой ошибки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Но иногда  свойство соединения образовать золи используют для повышение  чувствительности или селективности реакций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Некоторые гидроксиды дают плохо различимые коллоидные осадки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В этих случаях к раствору прибавляют немного красителя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Коллоидные частицы  получающегося гидроксида адсорбируют краситель и осадок становится хорошо заметным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Английский ученый Грэм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 (1861)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 установил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что соли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,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основания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кислоты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образующие кристаллы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в растворенном состоянии легко проходят через полупроницаемые перегородки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тогда как смолообразные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или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клееподобные вещества в растворе не проходят через них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Первые вещества были названы кристаллоидами 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от слова кристалл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),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а вторые коллоидами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от греческого слова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колла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-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клей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).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Грэм  предложил разделить все вещества на эти два класса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В дальнейшем русские ученые И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Г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Борщев и П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П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Веймарн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показали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что следует различать не коллоиды и кристаллоиды как противоположные типы веществ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а коллоидное и кристаллоидное состояния вещества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Все вещества в зависимости от условий 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природы растворителя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концентрации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температуры и др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.)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могут существовать как в коллоидном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так и в криталлоидном состояниях</a:t>
            </a:r>
            <a:r>
              <a:rPr b="0" lang="en-US" sz="2400" spc="-1" strike="noStrike">
                <a:solidFill>
                  <a:srgbClr val="073e87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79280" y="188640"/>
            <a:ext cx="8748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ndara"/>
              </a:rPr>
              <a:t>Коллоидные растворы или золи</a:t>
            </a:r>
            <a:r>
              <a:rPr b="1" lang="en-US" sz="36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-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это дисперсные системы с диаметром частиц от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 100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до 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1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нм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Известны коллоидные растворы кремниевой кислоты 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, 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сульфида мышьяка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 (III), 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гидроксида железа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 (III)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и других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Все золи прозрачны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неоднородность нельзя обнаружить  невооруженным глазом  или с помощью обычного микроскопа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 Однако она может быть установлена с помощью эффекта Тиндаля или ультрамикроскопа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50560" y="115560"/>
            <a:ext cx="8713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Эффект Тиндаля наблюдается</a:t>
            </a:r>
            <a:r>
              <a:rPr b="0" lang="en-US" sz="3200" spc="-1" strike="noStrike">
                <a:solidFill>
                  <a:srgbClr val="ff0000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 когда через коллоидный раствор</a:t>
            </a:r>
            <a:r>
              <a:rPr b="0" lang="en-US" sz="3200" spc="-1" strike="noStrike">
                <a:solidFill>
                  <a:srgbClr val="ff0000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 находящийся в темноте</a:t>
            </a:r>
            <a:r>
              <a:rPr b="0" lang="en-US" sz="3200" spc="-1" strike="noStrike">
                <a:solidFill>
                  <a:srgbClr val="ff0000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 пропускают пучок сходящихся световых лучей</a:t>
            </a:r>
            <a:r>
              <a:rPr b="0" lang="en-US" sz="3200" spc="-1" strike="noStrike">
                <a:solidFill>
                  <a:srgbClr val="ff0000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  Коллоидные частицы рассеивают свет и в жидкости возникает освещенный конус</a:t>
            </a:r>
            <a:r>
              <a:rPr b="0" lang="en-US" sz="3200" spc="-1" strike="noStrike">
                <a:solidFill>
                  <a:srgbClr val="ff0000"/>
                </a:solidFill>
                <a:latin typeface="Candara"/>
              </a:rPr>
              <a:t> - </a:t>
            </a: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наблюдается опалесценция</a:t>
            </a:r>
            <a:r>
              <a:rPr b="0" lang="en-US" sz="3200" spc="-1" strike="noStrike">
                <a:solidFill>
                  <a:srgbClr val="ff0000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 В ультрамикроскопе коллоидные частицы можно обнаружить по светорассеянию попадающих на них лучей</a:t>
            </a:r>
            <a:r>
              <a:rPr b="0" lang="en-US" sz="3200" spc="-1" strike="noStrike">
                <a:solidFill>
                  <a:srgbClr val="ff0000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 так как раствор освещается сбоку</a:t>
            </a:r>
            <a:r>
              <a:rPr b="0" lang="en-US" sz="3200" spc="-1" strike="noStrike">
                <a:solidFill>
                  <a:srgbClr val="ff0000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 Подобно этому на пути солнечного луча в затемненной комнате заметно мерцание отдельных пылинок</a:t>
            </a:r>
            <a:r>
              <a:rPr b="0" lang="en-US" sz="3200" spc="-1" strike="noStrike">
                <a:solidFill>
                  <a:srgbClr val="ff0000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  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074f"/>
                </a:solidFill>
                <a:latin typeface="Candara"/>
              </a:rPr>
              <a:t>ДИСПЕРСИОННЫЕ</a:t>
            </a:r>
            <a:r>
              <a:rPr b="0" lang="ru-RU" sz="2400" spc="-1" strike="noStrike">
                <a:solidFill>
                  <a:srgbClr val="59074f"/>
                </a:solidFill>
                <a:latin typeface="Candara"/>
              </a:rPr>
              <a:t> способы состоят в диспергировании</a:t>
            </a:r>
            <a:r>
              <a:rPr b="0" lang="en-US" sz="2400" spc="-1" strike="noStrike">
                <a:solidFill>
                  <a:srgbClr val="59074f"/>
                </a:solidFill>
                <a:latin typeface="Candara"/>
              </a:rPr>
              <a:t>,</a:t>
            </a:r>
            <a:r>
              <a:rPr b="0" lang="ru-RU" sz="2400" spc="-1" strike="noStrike">
                <a:solidFill>
                  <a:srgbClr val="59074f"/>
                </a:solidFill>
                <a:latin typeface="Candara"/>
              </a:rPr>
              <a:t> т</a:t>
            </a:r>
            <a:r>
              <a:rPr b="0" lang="en-US" sz="2400" spc="-1" strike="noStrike">
                <a:solidFill>
                  <a:srgbClr val="59074f"/>
                </a:solidFill>
                <a:latin typeface="Candara"/>
              </a:rPr>
              <a:t>.</a:t>
            </a:r>
            <a:r>
              <a:rPr b="0" lang="ru-RU" sz="2400" spc="-1" strike="noStrike">
                <a:solidFill>
                  <a:srgbClr val="59074f"/>
                </a:solidFill>
                <a:latin typeface="Candara"/>
              </a:rPr>
              <a:t> е</a:t>
            </a:r>
            <a:r>
              <a:rPr b="0" lang="en-US" sz="2400" spc="-1" strike="noStrike">
                <a:solidFill>
                  <a:srgbClr val="59074f"/>
                </a:solidFill>
                <a:latin typeface="Candara"/>
              </a:rPr>
              <a:t>.</a:t>
            </a:r>
            <a:r>
              <a:rPr b="0" lang="ru-RU" sz="2400" spc="-1" strike="noStrike">
                <a:solidFill>
                  <a:srgbClr val="59074f"/>
                </a:solidFill>
                <a:latin typeface="Candara"/>
              </a:rPr>
              <a:t> измельчении крупных частиц вещества</a:t>
            </a:r>
            <a:r>
              <a:rPr b="0" lang="en-US" sz="2400" spc="-1" strike="noStrike">
                <a:solidFill>
                  <a:srgbClr val="59074f"/>
                </a:solidFill>
                <a:latin typeface="Candara"/>
              </a:rPr>
              <a:t>.</a:t>
            </a:r>
            <a:r>
              <a:rPr b="0" lang="ru-RU" sz="2400" spc="-1" strike="noStrike">
                <a:solidFill>
                  <a:srgbClr val="59074f"/>
                </a:solidFill>
                <a:latin typeface="Candara"/>
              </a:rPr>
              <a:t> При достаточно продолжительном соприкосновении яичного белка</a:t>
            </a:r>
            <a:r>
              <a:rPr b="0" lang="en-US" sz="2400" spc="-1" strike="noStrike">
                <a:solidFill>
                  <a:srgbClr val="59074f"/>
                </a:solidFill>
                <a:latin typeface="Candara"/>
              </a:rPr>
              <a:t>,</a:t>
            </a:r>
            <a:r>
              <a:rPr b="0" lang="ru-RU" sz="2400" spc="-1" strike="noStrike">
                <a:solidFill>
                  <a:srgbClr val="59074f"/>
                </a:solidFill>
                <a:latin typeface="Candara"/>
              </a:rPr>
              <a:t> желатины и гуммиарабика с водой получают коллоидные растворы этих веществ</a:t>
            </a:r>
            <a:r>
              <a:rPr b="0" lang="en-US" sz="2400" spc="-1" strike="noStrike">
                <a:solidFill>
                  <a:srgbClr val="59074f"/>
                </a:solidFill>
                <a:latin typeface="Candara"/>
              </a:rPr>
              <a:t>.</a:t>
            </a:r>
            <a:r>
              <a:rPr b="0" lang="ru-RU" sz="2400" spc="-1" strike="noStrike">
                <a:solidFill>
                  <a:srgbClr val="59074f"/>
                </a:solidFill>
                <a:latin typeface="Candara"/>
              </a:rPr>
              <a:t>  Однако  чаще приходится дробить вещество при помощи коллоидной  мельницы</a:t>
            </a:r>
            <a:r>
              <a:rPr b="0" lang="en-US" sz="2400" spc="-1" strike="noStrike">
                <a:solidFill>
                  <a:srgbClr val="59074f"/>
                </a:solidFill>
                <a:latin typeface="Candara"/>
              </a:rPr>
              <a:t>.</a:t>
            </a:r>
            <a:r>
              <a:rPr b="0" lang="ru-RU" sz="2400" spc="-1" strike="noStrike">
                <a:solidFill>
                  <a:srgbClr val="59074f"/>
                </a:solidFill>
                <a:latin typeface="Candara"/>
              </a:rPr>
              <a:t> Так получают коллоидные растворы  некоторых красок</a:t>
            </a:r>
            <a:r>
              <a:rPr b="0" lang="en-US" sz="2400" spc="-1" strike="noStrike">
                <a:solidFill>
                  <a:srgbClr val="59074f"/>
                </a:solidFill>
                <a:latin typeface="Candara"/>
              </a:rPr>
              <a:t>,</a:t>
            </a:r>
            <a:r>
              <a:rPr b="0" lang="ru-RU" sz="2400" spc="-1" strike="noStrike">
                <a:solidFill>
                  <a:srgbClr val="59074f"/>
                </a:solidFill>
                <a:latin typeface="Candara"/>
              </a:rPr>
              <a:t> наполнителей для бумаг и резины</a:t>
            </a:r>
            <a:r>
              <a:rPr b="0" lang="en-US" sz="2400" spc="-1" strike="noStrike">
                <a:solidFill>
                  <a:srgbClr val="59074f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ndara"/>
              </a:rPr>
              <a:t>Различают дисперсионные и конденсационные способы получения каллоидных растворов 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9074f"/>
                </a:solidFill>
                <a:latin typeface="Candara"/>
              </a:rPr>
              <a:t>КОНДЕНСАЦИОННЫЕ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способы получения коллоидных растворов называют так потому</a:t>
            </a:r>
            <a:r>
              <a:rPr b="0" lang="en-US" sz="3200" spc="-1" strike="noStrike">
                <a:solidFill>
                  <a:srgbClr val="002060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что образованию коллоидных частиц предшествует получение  молекул </a:t>
            </a:r>
            <a:r>
              <a:rPr b="0" lang="en-US" sz="3200" spc="-1" strike="noStrike">
                <a:solidFill>
                  <a:srgbClr val="002060"/>
                </a:solidFill>
                <a:latin typeface="Candara"/>
              </a:rPr>
              <a:t>(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или атомов</a:t>
            </a:r>
            <a:r>
              <a:rPr b="0" lang="en-US" sz="3200" spc="-1" strike="noStrike">
                <a:solidFill>
                  <a:srgbClr val="002060"/>
                </a:solidFill>
                <a:latin typeface="Candara"/>
              </a:rPr>
              <a:t>)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вещества</a:t>
            </a:r>
            <a:r>
              <a:rPr b="0" lang="en-US" sz="3200" spc="-1" strike="noStrike">
                <a:solidFill>
                  <a:srgbClr val="002060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которые затем конденсируются в более крупные агрегаты</a:t>
            </a:r>
            <a:r>
              <a:rPr b="0" lang="en-US" sz="3200" spc="-1" strike="noStrike">
                <a:solidFill>
                  <a:srgbClr val="002060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Например</a:t>
            </a:r>
            <a:r>
              <a:rPr b="0" lang="en-US" sz="3200" spc="-1" strike="noStrike">
                <a:solidFill>
                  <a:srgbClr val="002060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если через погруженные в воду серебряные проволочки пропускать электрический ток</a:t>
            </a:r>
            <a:r>
              <a:rPr b="0" lang="en-US" sz="3200" spc="-1" strike="noStrike">
                <a:solidFill>
                  <a:srgbClr val="002060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то возникает электрическая дуга</a:t>
            </a:r>
            <a:r>
              <a:rPr b="0" lang="en-US" sz="3200" spc="-1" strike="noStrike">
                <a:solidFill>
                  <a:srgbClr val="002060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 под действием которой металл испаряется в виде атомов</a:t>
            </a:r>
            <a:r>
              <a:rPr b="0" lang="en-US" sz="3200" spc="-1" strike="noStrike">
                <a:solidFill>
                  <a:srgbClr val="002060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Затем они конденсируются в крупные частицы  и получается коллоидный раствор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серебра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26560" y="981000"/>
            <a:ext cx="7409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Размеры и форму коллоидных частиц изучают в электронном микроскопе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Коллоидные частицы представляют собой сложные агрегаты состоящих из многих атомов и молекул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Так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коллоидные частицы металлов содержат сотни атомов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коллоидная частица мыла объединяет от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 20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до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 50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молекул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а коллоидная частица гидроксида железа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=300=400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молекул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26560" y="189000"/>
            <a:ext cx="7409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Коллоидные растворы устойчивы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: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они не разрушаются долгое время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существуют месяцы и даже годы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Дисперсная фаза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 состоящая из малорастворимых  веществ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не выпадает в осадок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хотя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сталкиваясь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коллоидные частицы должны были слипаться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 укрупняться оседать под действием силы тяжести</a:t>
            </a:r>
            <a:r>
              <a:rPr b="0" lang="en-US" sz="36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26560" y="1052280"/>
            <a:ext cx="7409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Коллоидные частицы гидроксидов металлов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гемоглобина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некоторых красок заряжены положительно и передвигаются по катоду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Другие коллоидные частицы перемещаются к аноду и имеют отрицательный заряд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Все коллоидные частицы  в растворе заряжены одноименно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 чем и обусловлено их взаимное отталкивание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,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препятствующее укреплению частиц и обеспечивающее устойчивость коллоидных систем</a:t>
            </a:r>
            <a:r>
              <a:rPr b="0" lang="en-US" sz="3200" spc="-1" strike="noStrike">
                <a:solidFill>
                  <a:srgbClr val="073e87"/>
                </a:solidFill>
                <a:latin typeface="Candara"/>
              </a:rPr>
              <a:t>.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7:23:48Z</dcterms:created>
  <dc:creator>Гульден</dc:creator>
  <dc:description/>
  <dc:language>en-US</dc:language>
  <cp:lastModifiedBy>1</cp:lastModifiedBy>
  <dcterms:modified xsi:type="dcterms:W3CDTF">2012-02-04T04:41:20Z</dcterms:modified>
  <cp:revision>24</cp:revision>
  <dc:subject/>
  <dc:title>КОЛЛОИДНЫЕ РАСТВОРЫ</dc:title>
</cp:coreProperties>
</file>